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213E-7F93-4141-92EB-ADE311F01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81280" y="1447920"/>
            <a:ext cx="51055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3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19360" y="3200040"/>
            <a:ext cx="426708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19360" y="3797280"/>
            <a:ext cx="426708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A979-B18C-482B-B4F6-B5527CD2F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581280" y="1447920"/>
            <a:ext cx="51055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3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19360" y="3200040"/>
            <a:ext cx="20822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06000" y="3200040"/>
            <a:ext cx="20822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19360" y="3797280"/>
            <a:ext cx="20822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06000" y="3797280"/>
            <a:ext cx="20822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4BD1-3542-42F2-8A33-C8324D4E3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581280" y="1447920"/>
            <a:ext cx="51055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3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19360" y="3200040"/>
            <a:ext cx="13737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862240" y="3200040"/>
            <a:ext cx="13737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305120" y="3200040"/>
            <a:ext cx="13737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19360" y="3797280"/>
            <a:ext cx="13737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862240" y="3797280"/>
            <a:ext cx="13737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305120" y="3797280"/>
            <a:ext cx="13737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1A89-30BE-41E6-BA4B-350FEAD71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E16C6-96E4-4E15-9438-05D3F0576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581280" y="1447920"/>
            <a:ext cx="51055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3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419360" y="3200040"/>
            <a:ext cx="4267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BA2A7-D887-4834-9BEB-33328E76A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81280" y="1447920"/>
            <a:ext cx="51055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3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19360" y="3200040"/>
            <a:ext cx="4267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9D370-B17D-4094-B6B0-9A7AAD7F6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581280" y="1447920"/>
            <a:ext cx="51055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3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19360" y="3200040"/>
            <a:ext cx="20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606000" y="3200040"/>
            <a:ext cx="20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CB337-2327-489B-8EC9-B909DC30B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581280" y="1447920"/>
            <a:ext cx="51055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3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B4B06-9802-476F-B94D-AB6333818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581280" y="1447920"/>
            <a:ext cx="5105520" cy="565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385EB-C31B-4C3C-93A9-9B40F4457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581280" y="1447920"/>
            <a:ext cx="51055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3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19360" y="3200040"/>
            <a:ext cx="20822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06000" y="3200040"/>
            <a:ext cx="20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419360" y="3797280"/>
            <a:ext cx="20822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ADAE3-327E-457D-8A81-0D9F48198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581280" y="1447920"/>
            <a:ext cx="51055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3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19360" y="3200040"/>
            <a:ext cx="4267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80A6-16EC-48E6-A248-CCECA97CD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581280" y="1447920"/>
            <a:ext cx="51055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3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419360" y="3200040"/>
            <a:ext cx="20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06000" y="3200040"/>
            <a:ext cx="20822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606000" y="3797280"/>
            <a:ext cx="20822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EEEA4-A2BB-4178-A684-4A829B8F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81280" y="1447920"/>
            <a:ext cx="51055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3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419360" y="3200040"/>
            <a:ext cx="20822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606000" y="3200040"/>
            <a:ext cx="20822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419360" y="3797280"/>
            <a:ext cx="426708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16C92-8F29-44FD-81B7-74CEA0CC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81280" y="1447920"/>
            <a:ext cx="51055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3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419360" y="3200040"/>
            <a:ext cx="426708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19360" y="3797280"/>
            <a:ext cx="426708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12F34-1248-4001-A69B-ADCE6547C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581280" y="1447920"/>
            <a:ext cx="51055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3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419360" y="3200040"/>
            <a:ext cx="20822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606000" y="3200040"/>
            <a:ext cx="20822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19360" y="3797280"/>
            <a:ext cx="20822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606000" y="3797280"/>
            <a:ext cx="20822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9606F-058D-4DFD-9EEC-98DA36698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81280" y="1447920"/>
            <a:ext cx="51055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3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419360" y="3200040"/>
            <a:ext cx="13737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862240" y="3200040"/>
            <a:ext cx="13737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305120" y="3200040"/>
            <a:ext cx="13737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419360" y="3797280"/>
            <a:ext cx="13737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5862240" y="3797280"/>
            <a:ext cx="13737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305120" y="3797280"/>
            <a:ext cx="13737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D5A72-3A9F-4BEA-8C14-4636B4C79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581280" y="1447920"/>
            <a:ext cx="51055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3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19360" y="3200040"/>
            <a:ext cx="4267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E94E-13DA-4257-8A5C-1EC19905C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81280" y="1447920"/>
            <a:ext cx="51055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3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19360" y="3200040"/>
            <a:ext cx="20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06000" y="3200040"/>
            <a:ext cx="20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3DEA-4FA9-4732-8156-2EDF0D455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581280" y="1447920"/>
            <a:ext cx="51055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3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B369-5D41-4090-B49B-7D14F5387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581280" y="1447920"/>
            <a:ext cx="5105520" cy="565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3B21-218D-4D5B-92DF-E713C6FDD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581280" y="1447920"/>
            <a:ext cx="51055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3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19360" y="3200040"/>
            <a:ext cx="20822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06000" y="3200040"/>
            <a:ext cx="20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19360" y="3797280"/>
            <a:ext cx="20822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2644-D207-4B71-B044-44171146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81280" y="1447920"/>
            <a:ext cx="51055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3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19360" y="3200040"/>
            <a:ext cx="20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06000" y="3200040"/>
            <a:ext cx="20822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06000" y="3797280"/>
            <a:ext cx="20822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A392-8CFE-47DF-B6A9-F5875DF8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81280" y="1447920"/>
            <a:ext cx="51055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3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19360" y="3200040"/>
            <a:ext cx="20822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06000" y="3200040"/>
            <a:ext cx="20822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19360" y="3797280"/>
            <a:ext cx="426708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D74F-A8C3-42BC-B323-B42F052C9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3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643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742840" y="632448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A53B3-138F-479E-88D9-8350789001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81280" y="1447920"/>
            <a:ext cx="51055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3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643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C7E08-D727-4DB2-AAE2-F9CEAD5968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4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4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581280" y="1447920"/>
            <a:ext cx="51055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3000"/>
                </a:solidFill>
                <a:latin typeface="Old English Text MT"/>
              </a:rPr>
              <a:t>Shakespeare’s England</a:t>
            </a:r>
            <a:endParaRPr b="1" lang="en-US" sz="4400" spc="-1" strike="noStrike">
              <a:solidFill>
                <a:srgbClr val="643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419360" y="3200040"/>
            <a:ext cx="4267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nders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3000"/>
                </a:solidFill>
                <a:latin typeface="Times New Roman"/>
              </a:rPr>
              <a:t>Countryside, rural areas</a:t>
            </a:r>
            <a:endParaRPr b="1" lang="en-US" sz="4400" spc="-1" strike="noStrike">
              <a:solidFill>
                <a:srgbClr val="643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wealthier classes often had country estates and homes in the c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arms were becoming privatized, breaking away from the feudal system of land-lor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veling through the country was very dangerous; roads were narrow and beset with bandi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3000"/>
                </a:solidFill>
                <a:latin typeface="Times New Roman"/>
              </a:rPr>
              <a:t>Men, Women, &amp; Marriage</a:t>
            </a:r>
            <a:endParaRPr b="1" lang="en-US" sz="4400" spc="-1" strike="noStrike">
              <a:solidFill>
                <a:srgbClr val="643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7924680" cy="44197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triarchy - men were the traditional rulers of the household.  Upheld the social chain: God-Monarch-Lord-Husban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mogeniture - estates and wealth traditionally passed from father to eldest s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wry - cash, goods, and property passed from the father, through his daughter, to her new husband, to ensure a stable and profitable marri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3000"/>
                </a:solidFill>
                <a:latin typeface="Times New Roman"/>
              </a:rPr>
              <a:t>Men, Women, &amp; Marriage</a:t>
            </a:r>
            <a:endParaRPr b="1" lang="en-US" sz="4400" spc="-1" strike="noStrike">
              <a:solidFill>
                <a:srgbClr val="643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was taken as religious, social, and scientific fact that men were superior to women.  Often referenced the Old Testament or Paul’s letters as proof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4 humors: sanguine (blood), phlegmatic (phlegm), choleric (choler), and melancholy (black bile) were believed to rule the health and disposition of a pers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3000"/>
                </a:solidFill>
                <a:latin typeface="Times New Roman"/>
              </a:rPr>
              <a:t>Men, Women, &amp; Marriage</a:t>
            </a:r>
            <a:endParaRPr b="1" lang="en-US" sz="4400" spc="-1" strike="noStrike">
              <a:solidFill>
                <a:srgbClr val="643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was believed that because of menstruation, women were less able to keep the humors in bal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omen were perceived as passionate, emotional, illogical creatur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rriage was not about lov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rriage was a social contract that secured the survival and status of the participating famil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3000"/>
                </a:solidFill>
                <a:latin typeface="Times New Roman"/>
              </a:rPr>
              <a:t>Men, Women, &amp; Marriage</a:t>
            </a:r>
            <a:endParaRPr b="1" lang="en-US" sz="4400" spc="-1" strike="noStrike">
              <a:solidFill>
                <a:srgbClr val="643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verbal contract (or handfasting) was also perceived as marriage, even before the official ceremon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-marital intercourse did happen -- LOTS of shotgun weddings in Shakespeare’s day (including his own marriage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w ideas about companionable marriage were emerging in Shakespeare’s time, thanks to Protestantis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3000"/>
                </a:solidFill>
                <a:latin typeface="Times New Roman"/>
              </a:rPr>
              <a:t>The Theater</a:t>
            </a:r>
            <a:endParaRPr b="1" lang="en-US" sz="4400" spc="-1" strike="noStrike">
              <a:solidFill>
                <a:srgbClr val="643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848720" cy="46479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lourished because Elizabeth I and James I loved drama. If it had been up to the Puritans, the theaters would have been permanently closed.  (They were, in time, after the execution of Charles I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aters were closed occasionally because of the plagu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aters attracted and accommodated nearly all classes of society, from prostitutes to “stinkards” to nobilit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3000"/>
                </a:solidFill>
                <a:latin typeface="Times New Roman"/>
              </a:rPr>
              <a:t>The Theater</a:t>
            </a:r>
            <a:endParaRPr b="1" lang="en-US" sz="4400" spc="-1" strike="noStrike">
              <a:solidFill>
                <a:srgbClr val="643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8765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ing companies were sponsored by nobility (and even the monarchs).  This gave the actors protection -- otherwise, they would have been “masterless men”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rd Chamberlain’s M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King’s M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blic” performances at amphitheaters like The Swan and The Glob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vate” performances at halls like Blackfria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3000"/>
                </a:solidFill>
                <a:latin typeface="Times New Roman"/>
              </a:rPr>
              <a:t>The Theater</a:t>
            </a:r>
            <a:endParaRPr b="1" lang="en-US" sz="4400" spc="-1" strike="noStrike">
              <a:solidFill>
                <a:srgbClr val="643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 actors were men; boys cross-dressed and performed women’s rol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re were even full acting companies of boys,competed with the adult companies during the off-season when nobility visited their countryside estat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581280" y="1447920"/>
            <a:ext cx="51055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3000"/>
                </a:solidFill>
                <a:latin typeface="Times New Roman"/>
              </a:rPr>
              <a:t>The End!</a:t>
            </a:r>
            <a:endParaRPr b="1" lang="en-US" sz="4400" spc="-1" strike="noStrike">
              <a:solidFill>
                <a:srgbClr val="643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419360" y="3200040"/>
            <a:ext cx="4267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3000"/>
                </a:solidFill>
                <a:latin typeface="Times New Roman"/>
              </a:rPr>
              <a:t>Politics</a:t>
            </a:r>
            <a:endParaRPr b="1" lang="en-US" sz="4400" spc="-1" strike="noStrike">
              <a:solidFill>
                <a:srgbClr val="643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wer more centralized than during the Middle Ages, when squabbling feudal lords raised private armies and fought each other over lan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dor monarchs mostly dealt with religion (inseparable from politics) and international affai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mestic affairs (namely taxation) handled by parliament(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3000"/>
                </a:solidFill>
                <a:latin typeface="Times New Roman"/>
              </a:rPr>
              <a:t>Life at Court</a:t>
            </a:r>
            <a:endParaRPr b="1" lang="en-US" sz="4400" spc="-1" strike="noStrike">
              <a:solidFill>
                <a:srgbClr val="643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narch surrounded by an array of counselors (similar the President’s Cabinet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izabeth I was surrounded by colorful characters: William Cecil, chief minister; Sir Thomas Gresham, financial minister; Robert Dudley, Master of the Horse; Francis Walsingham, principal secretary, initiated an intricate spy network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3000"/>
                </a:solidFill>
                <a:latin typeface="Times New Roman"/>
              </a:rPr>
              <a:t>Life at Court cont.</a:t>
            </a:r>
            <a:endParaRPr b="1" lang="en-US" sz="4400" spc="-1" strike="noStrike">
              <a:solidFill>
                <a:srgbClr val="643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verybody wanted to be in favor with the monarch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narch’s favorites often obtained requests for land, money, marriage, or desired institutions like universit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e coveted positon was to be Henry VIII’s Groom of the Stoo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Royal Court was full of scheming, gossiping, and double-talk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3000"/>
                </a:solidFill>
                <a:latin typeface="Times New Roman"/>
              </a:rPr>
              <a:t>Economy</a:t>
            </a:r>
            <a:endParaRPr b="1" lang="en-US" sz="4400" spc="-1" strike="noStrike">
              <a:solidFill>
                <a:srgbClr val="643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ral new class systems emerged during England’s Golden Ag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t as much mobility between classes as we experience now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mptuary laws: you had to be of a certain station to wear luxurious fabrics and colors (silk, purple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3000"/>
                </a:solidFill>
                <a:latin typeface="Times New Roman"/>
              </a:rPr>
              <a:t>Economy: social hierarchy</a:t>
            </a:r>
            <a:endParaRPr b="1" lang="en-US" sz="4400" spc="-1" strike="noStrike">
              <a:solidFill>
                <a:srgbClr val="643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istocracy: persons of noble birth, possessed large estates, regulars at court and/or parlia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try: descendants of the aristocracy, smaller land holdings, often obtained their wealth through business monopol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itizens: urban tradesm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eomen: rural equivalent to the urban mercha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3000"/>
                </a:solidFill>
                <a:latin typeface="Times New Roman"/>
              </a:rPr>
              <a:t>Economy: lower and new classes</a:t>
            </a:r>
            <a:endParaRPr b="1" lang="en-US" sz="4400" spc="-1" strike="noStrike">
              <a:solidFill>
                <a:srgbClr val="643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rvants, laborers, peasants: owned little, made their living working for oth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indigent: beggars, those who were unable to work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wyers: new emerging class at Inns of Court, well of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sterless men: wandering ex-soldiers, swindlers, or entertain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3000"/>
                </a:solidFill>
                <a:latin typeface="Times New Roman"/>
              </a:rPr>
              <a:t>London</a:t>
            </a:r>
            <a:endParaRPr b="1" lang="en-US" sz="4400" spc="-1" strike="noStrike">
              <a:solidFill>
                <a:srgbClr val="643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01000" cy="44956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lled on three sides (ancient Roman boundaries), fourth side bordered by the Thames Riv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mercial London essentially run by guilds (kind of like labor unions, but even more specialize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utter ran down the middle of the streets for wastewater and sew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pper stories overhung lower stories, made streets feel even more crow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3000"/>
                </a:solidFill>
                <a:latin typeface="Times New Roman"/>
              </a:rPr>
              <a:t>The Suburbs</a:t>
            </a:r>
            <a:endParaRPr b="1" lang="en-US" sz="4400" spc="-1" strike="noStrike">
              <a:solidFill>
                <a:srgbClr val="643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lled the “Liberties”; not really under the jurisdiction of the City of Lond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ven for petty criminals, masterless men, prostitutes, lep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cation of the theaters (the Master of the Revels and Puritan authorities hated the theater, but they had less reach on the Banksid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7T23:32:24Z</dcterms:created>
  <dc:creator>Kathryn Henderson</dc:creator>
  <dc:description/>
  <dc:language>en-US</dc:language>
  <cp:lastModifiedBy>Lawrence Public Schools</cp:lastModifiedBy>
  <dcterms:modified xsi:type="dcterms:W3CDTF">2008-01-28T15:06:08Z</dcterms:modified>
  <cp:revision>2</cp:revision>
  <dc:subject/>
  <dc:title>Shakespeare’s England</dc:title>
</cp:coreProperties>
</file>